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BC7-03C6-4A96-AE24-0A5E0AA1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C81-30DD-4496-8D61-F02B1B7A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EA6-695C-446B-8A37-903986D5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361-53B5-4FD9-8957-8DE87898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72B8-E6D8-4E4D-A305-0836690E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2BD-C72E-4CFD-A58C-11ADEBEF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B876-BC84-4A2D-A6B5-0A6A356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BD0A-1859-481A-97D9-7ED27C8C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1288-9E9C-4BCA-9837-1BD93B81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51F7-C296-47EA-AAD8-1E13650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C13C-3C48-45EE-A62F-6ACFF0E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34F-A585-4C4E-AC04-70E7C8EF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676A-3AE5-43F6-8139-4E2D1B6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3FF3-36AF-4DFD-A455-4580A7F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0F17-DA30-42EE-8D31-84F16F8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5584-5803-4F48-B7CC-82397E80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902B-6DBD-4EBA-8EF7-47589530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E1F-F26D-4051-B9D1-701FE627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4DE-4C62-4A56-8793-1C282820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0BD-B23E-442E-8555-6CC8A81A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014-E48C-4475-84E8-E29FE5A2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BE4-FF00-4CF9-BCAC-AC248C5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922-AF57-4195-A31F-4FCDF7B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29F-2CA9-44BF-8C7E-3C7B34B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A51-3359-41E3-9549-8CD62650D7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F90-193A-4CDB-B782-0CCC3419B1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58804"/>
                </a:solidFill>
                <a:latin typeface="Times New Roman"/>
              </a:rPr>
              <a:t>I</a:t>
            </a:r>
            <a:r>
              <a:rPr b="0" lang="ru-RU" sz="3800" spc="-1" strike="noStrike">
                <a:solidFill>
                  <a:srgbClr val="958804"/>
                </a:solidFill>
                <a:latin typeface="Times New Roman"/>
              </a:rPr>
              <a:t> денежная реформа 1534 год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14075" t="0" r="0" b="0"/>
          <a:stretch/>
        </p:blipFill>
        <p:spPr>
          <a:xfrm>
            <a:off x="1258920" y="2133720"/>
            <a:ext cx="3286080" cy="2886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ервая денежная реформа была проведена при Иване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Грозном (1534 - 1584) его матерью Еленой Глинской в 1534г., в результате которой на Московском, Новгородском и Псковском денежных дворах стали чеканить единую общегосударственную монету – КОПЕ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58804"/>
                </a:solidFill>
                <a:latin typeface="Times New Roman"/>
              </a:rPr>
              <a:t>В виде реальных монет существовал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ОПЕЙКИ – с изображением всадника с копь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ДЕНГИ» - с изображением всадника  с саб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ОЛУШКИ – с изображением голу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1542960" y="1620720"/>
            <a:ext cx="2090880" cy="16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468440" y="3852720"/>
            <a:ext cx="2317680" cy="1957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4:02Z</dcterms:modified>
  <cp:revision>34</cp:revision>
  <dc:subject/>
  <dc:title>Денежные реформы России</dc:title>
</cp:coreProperties>
</file>